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75C-B23F-45B4-8ADE-FB6EA187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F32-2B67-47D9-B32B-D2D6C719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0B0-9FA9-4E62-A905-4805F8D1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75D-2713-4732-9BC3-8E24F62D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C428-8ED4-45D3-9910-AE85AB7D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424E-3167-4DAD-A829-8B9DC02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D3F-07FE-4D4A-8669-1D7BEB5E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786-2E60-4ADF-BF44-4B6D00A0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97B3-33C0-4E74-8D02-175A563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C790-DAA6-4005-B462-7D3173A5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600A-3696-42C3-A1C9-C7FA950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3A3-29E9-4E11-AB47-85254FF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8877-C1C8-40FC-83A8-1856C74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C5BC-CE80-429E-843C-F1EE0B15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4258-BC44-445E-895C-DC18286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7C89-6AEF-4C32-AF84-4A63A88A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A17E-843F-4542-93C7-D25B8780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5FFA-1A4E-4711-814A-0E8F0314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A71B-1532-4AAB-B14A-7212178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4592-D3D6-47E9-96D5-6824FDF5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6172-B1E6-4D00-AA75-CDCCC4C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4992-7314-4942-8695-E50F853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179-6186-44FA-BE7D-A44ED338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10A5A-03CE-46CC-9E25-6A1D9F14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759E1-8118-4D28-A6DF-940DCDD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8860-35C1-4B78-A173-5AA2973A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C221-F278-4FF2-9BC2-F634DCB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1904-D38E-4171-B3E5-8E351329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E3E4-3D66-4621-881F-694C5657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EA78-28EB-4C7A-A2B7-2E5E0325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6E09-E093-49B0-B13B-B9B97A7D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41B4-279A-4151-B559-BA08993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36C5-2171-4CF9-A5EB-F3B1750F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528-DC02-45ED-B303-077C690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7EB3-A8E2-4201-8395-36E2BFDE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C8268-10ED-43FB-8D51-4A52F231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B91C-9639-496F-9F78-8671B42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2652-5D54-45BB-B4CC-53CF5C1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673CD-C380-4E17-B46F-09280AE4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BFE6B-EFAE-41E0-A875-8238392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F09C-C99A-4871-A2D0-026C5321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AD32-9568-4EE4-A25C-BF269E49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41C4-A889-4742-A0E8-C17FFCDD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E90F-F304-475D-B1F0-6272CE4F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807-56C1-410E-9ADC-63B31B7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EB443-E9F4-4D58-8AD1-6AD47FED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FBE4-432F-47E7-B81D-F5E07F4B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F201-B291-4712-9714-EA7E484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F4AF5-7B9C-4C54-B550-70597B8A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E568-9D4C-41BB-BF09-7C5C0A37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E2A0-789C-4F17-AB6B-72AF72CC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879D0-D384-4645-8BB7-55442E9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C2382-B3DE-42C5-9B54-1E06CE3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0CBA4-6EFA-41FE-968A-49A1AEBF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4BE5-8111-4994-894B-004517BE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E59-826B-4BE7-B9F4-9EF7802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0048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6744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5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0048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6744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57F9A-4CA1-40CE-B3AF-F5E701C1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547-839A-44A2-BF4B-0D7B7E5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716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73B-8BB1-46FD-A119-54AFD1B2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716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280-BF45-4A5F-A8EC-D19E007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289-A2AD-415C-87EF-459AB34BFEB7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3F42-2777-450A-B200-6A4CF6CBEDDF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E279-606F-4A80-8391-58814E7B7801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9B1-E4CF-4AAA-92AE-67F561BCE640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498-2FF5-4BEF-9DC0-B455AD90C3EB}" type="slidenum">
              <a:rPr b="0" lang="en-US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screencast.com/t/NDU5OWU4" TargetMode="External"/><Relationship Id="rId4" Type="http://schemas.openxmlformats.org/officeDocument/2006/relationships/hyperlink" Target="http://screencast.com/t/OWNjOWU0MW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screencast.com/t/z0RrQ3PESP7P" TargetMode="External"/><Relationship Id="rId5" Type="http://schemas.openxmlformats.org/officeDocument/2006/relationships/hyperlink" Target="http://screencast.com/t/vQcbquUj" TargetMode="External"/><Relationship Id="rId6" Type="http://schemas.openxmlformats.org/officeDocument/2006/relationships/hyperlink" Target="http://screencast.com/t/aahVtAyNyQy" TargetMode="External"/><Relationship Id="rId7" Type="http://schemas.openxmlformats.org/officeDocument/2006/relationships/hyperlink" Target="http://screencast.com/t/OCtxWJxzOM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cadc6"/>
                </a:solidFill>
                <a:latin typeface="Verdana"/>
              </a:rPr>
              <a:t>No More Sub Notes!</a:t>
            </a:r>
            <a:endParaRPr b="1" lang="en-US" sz="45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11923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766b"/>
                </a:solidFill>
                <a:latin typeface="Verdana"/>
              </a:rPr>
              <a:t>Presented by Lenessa Keeh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766b"/>
                </a:solidFill>
                <a:latin typeface="Verdana"/>
              </a:rPr>
              <a:t>6-12 Business/Computer Tea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766b"/>
                </a:solidFill>
                <a:latin typeface="Verdana"/>
              </a:rPr>
              <a:t>Internship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766b"/>
                </a:solidFill>
                <a:latin typeface="Verdana"/>
              </a:rPr>
              <a:t>Lead-Deadwood School Distri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Ready, Get Set, Go!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y/Paste into “Sub Notes” for your replac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body is on the same p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isundersta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expectation from substitute teacher and stu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esignated page for each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video cl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 teacher expla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r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snapsh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when an explanation isn’t necess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s a supplemental vis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sh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area of computer screen to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area to use: size of scre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14400" y="3124080"/>
            <a:ext cx="2378160" cy="1295640"/>
            <a:chOff x="914400" y="3124080"/>
            <a:chExt cx="2378160" cy="1295640"/>
          </a:xfrm>
        </p:grpSpPr>
        <p:pic>
          <p:nvPicPr>
            <p:cNvPr id="251" name="Picture 3" descr=""/>
            <p:cNvPicPr/>
            <p:nvPr/>
          </p:nvPicPr>
          <p:blipFill>
            <a:blip r:embed="rId1"/>
            <a:srcRect l="10001" t="0" r="76668" b="86673"/>
            <a:stretch/>
          </p:blipFill>
          <p:spPr>
            <a:xfrm>
              <a:off x="1219320" y="3124080"/>
              <a:ext cx="207324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Box 5"/>
            <p:cNvSpPr/>
            <p:nvPr/>
          </p:nvSpPr>
          <p:spPr>
            <a:xfrm>
              <a:off x="914400" y="31240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4038480" y="3124080"/>
            <a:ext cx="4267440" cy="2952720"/>
            <a:chOff x="4038480" y="3124080"/>
            <a:chExt cx="4267440" cy="2952720"/>
          </a:xfrm>
        </p:grpSpPr>
        <p:pic>
          <p:nvPicPr>
            <p:cNvPr id="254" name="Picture 2" descr=""/>
            <p:cNvPicPr/>
            <p:nvPr/>
          </p:nvPicPr>
          <p:blipFill>
            <a:blip r:embed="rId2"/>
            <a:srcRect l="0" t="0" r="16128" b="0"/>
            <a:stretch/>
          </p:blipFill>
          <p:spPr>
            <a:xfrm>
              <a:off x="4343040" y="3124080"/>
              <a:ext cx="396288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7"/>
            <p:cNvSpPr/>
            <p:nvPr/>
          </p:nvSpPr>
          <p:spPr>
            <a:xfrm>
              <a:off x="4038480" y="3124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2"/>
          <p:cNvGrpSpPr/>
          <p:nvPr/>
        </p:nvGrpSpPr>
        <p:grpSpPr>
          <a:xfrm>
            <a:off x="914400" y="5105520"/>
            <a:ext cx="2403000" cy="368280"/>
            <a:chOff x="914400" y="5105520"/>
            <a:chExt cx="2403000" cy="368280"/>
          </a:xfrm>
        </p:grpSpPr>
        <p:sp>
          <p:nvSpPr>
            <p:cNvPr id="257" name="Rectangle 10"/>
            <p:cNvSpPr/>
            <p:nvPr/>
          </p:nvSpPr>
          <p:spPr>
            <a:xfrm>
              <a:off x="1222560" y="5105520"/>
              <a:ext cx="209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3"/>
                </a:rPr>
                <a:t>Snapshot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1"/>
            <p:cNvSpPr/>
            <p:nvPr/>
          </p:nvSpPr>
          <p:spPr>
            <a:xfrm>
              <a:off x="914400" y="5105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914400" y="5562720"/>
            <a:ext cx="2666880" cy="368280"/>
            <a:chOff x="914400" y="5562720"/>
            <a:chExt cx="2666880" cy="368280"/>
          </a:xfrm>
        </p:grpSpPr>
        <p:sp>
          <p:nvSpPr>
            <p:cNvPr id="260" name=""/>
            <p:cNvSpPr/>
            <p:nvPr/>
          </p:nvSpPr>
          <p:spPr>
            <a:xfrm>
              <a:off x="1219320" y="556272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4"/>
                </a:rPr>
                <a:t>Snapshot Exampl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1"/>
            <p:cNvSpPr/>
            <p:nvPr/>
          </p:nvSpPr>
          <p:spPr>
            <a:xfrm>
              <a:off x="914400" y="5562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area of computer screen to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recording time = 5 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838080" y="3200400"/>
            <a:ext cx="2378160" cy="1295280"/>
            <a:chOff x="838080" y="3200400"/>
            <a:chExt cx="2378160" cy="1295280"/>
          </a:xfrm>
        </p:grpSpPr>
        <p:pic>
          <p:nvPicPr>
            <p:cNvPr id="265" name="Picture 3" descr=""/>
            <p:cNvPicPr/>
            <p:nvPr/>
          </p:nvPicPr>
          <p:blipFill>
            <a:blip r:embed="rId1"/>
            <a:srcRect l="10001" t="0" r="76668" b="86673"/>
            <a:stretch/>
          </p:blipFill>
          <p:spPr>
            <a:xfrm>
              <a:off x="1143000" y="3200400"/>
              <a:ext cx="2073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Box 5"/>
            <p:cNvSpPr/>
            <p:nvPr/>
          </p:nvSpPr>
          <p:spPr>
            <a:xfrm>
              <a:off x="838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8"/>
          <p:cNvSpPr/>
          <p:nvPr/>
        </p:nvSpPr>
        <p:spPr>
          <a:xfrm>
            <a:off x="-16002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2"/>
          <p:cNvGrpSpPr/>
          <p:nvPr/>
        </p:nvGrpSpPr>
        <p:grpSpPr>
          <a:xfrm>
            <a:off x="4572000" y="3124080"/>
            <a:ext cx="3657600" cy="3413160"/>
            <a:chOff x="4572000" y="3124080"/>
            <a:chExt cx="3657600" cy="3413160"/>
          </a:xfrm>
        </p:grpSpPr>
        <p:sp>
          <p:nvSpPr>
            <p:cNvPr id="269" name="TextBox 9"/>
            <p:cNvSpPr/>
            <p:nvPr/>
          </p:nvSpPr>
          <p:spPr>
            <a:xfrm>
              <a:off x="4572000" y="3124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Picture 4" descr=""/>
            <p:cNvPicPr/>
            <p:nvPr/>
          </p:nvPicPr>
          <p:blipFill>
            <a:blip r:embed="rId2"/>
            <a:srcRect l="0" t="25332" r="54168" b="0"/>
            <a:stretch/>
          </p:blipFill>
          <p:spPr>
            <a:xfrm>
              <a:off x="4876560" y="3124080"/>
              <a:ext cx="3353040" cy="341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New and Improved SubNotes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” your cl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save in online account 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914400" y="3200400"/>
            <a:ext cx="2754360" cy="2057400"/>
            <a:chOff x="914400" y="3200400"/>
            <a:chExt cx="2754360" cy="2057400"/>
          </a:xfrm>
        </p:grpSpPr>
        <p:pic>
          <p:nvPicPr>
            <p:cNvPr id="274" name="Picture 2" descr=""/>
            <p:cNvPicPr/>
            <p:nvPr/>
          </p:nvPicPr>
          <p:blipFill>
            <a:blip r:embed="rId1"/>
            <a:srcRect l="0" t="72004" r="79169" b="0"/>
            <a:stretch/>
          </p:blipFill>
          <p:spPr>
            <a:xfrm>
              <a:off x="1218960" y="3200400"/>
              <a:ext cx="2449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Box 4"/>
            <p:cNvSpPr/>
            <p:nvPr/>
          </p:nvSpPr>
          <p:spPr>
            <a:xfrm>
              <a:off x="914400" y="3200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4"/>
          <p:cNvGrpSpPr/>
          <p:nvPr/>
        </p:nvGrpSpPr>
        <p:grpSpPr>
          <a:xfrm>
            <a:off x="4952880" y="3200400"/>
            <a:ext cx="3353040" cy="1854360"/>
            <a:chOff x="4952880" y="3200400"/>
            <a:chExt cx="3353040" cy="1854360"/>
          </a:xfrm>
        </p:grpSpPr>
        <p:grpSp>
          <p:nvGrpSpPr>
            <p:cNvPr id="277" name="Group 9"/>
            <p:cNvGrpSpPr/>
            <p:nvPr/>
          </p:nvGrpSpPr>
          <p:grpSpPr>
            <a:xfrm>
              <a:off x="4952880" y="3200400"/>
              <a:ext cx="3353040" cy="896400"/>
              <a:chOff x="4952880" y="3200400"/>
              <a:chExt cx="3353040" cy="896400"/>
            </a:xfrm>
          </p:grpSpPr>
          <p:sp>
            <p:nvSpPr>
              <p:cNvPr id="278" name="TextBox 6"/>
              <p:cNvSpPr/>
              <p:nvPr/>
            </p:nvSpPr>
            <p:spPr>
              <a:xfrm>
                <a:off x="4952880" y="320040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Picture 3" descr=""/>
              <p:cNvPicPr/>
              <p:nvPr/>
            </p:nvPicPr>
            <p:blipFill>
              <a:blip r:embed="rId2"/>
              <a:srcRect l="68335" t="6666" r="3334" b="80002"/>
              <a:stretch/>
            </p:blipFill>
            <p:spPr>
              <a:xfrm>
                <a:off x="5257440" y="3200400"/>
                <a:ext cx="3048480" cy="896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0" name="Picture 4" descr=""/>
            <p:cNvPicPr/>
            <p:nvPr/>
          </p:nvPicPr>
          <p:blipFill>
            <a:blip r:embed="rId3"/>
            <a:srcRect l="7500" t="7998" r="72504" b="81334"/>
            <a:stretch/>
          </p:blipFill>
          <p:spPr>
            <a:xfrm>
              <a:off x="5257440" y="4038480"/>
              <a:ext cx="3048480" cy="10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Group 16"/>
          <p:cNvGrpSpPr/>
          <p:nvPr/>
        </p:nvGrpSpPr>
        <p:grpSpPr>
          <a:xfrm>
            <a:off x="609480" y="5486400"/>
            <a:ext cx="2590920" cy="368280"/>
            <a:chOff x="609480" y="5486400"/>
            <a:chExt cx="2590920" cy="368280"/>
          </a:xfrm>
        </p:grpSpPr>
        <p:sp>
          <p:nvSpPr>
            <p:cNvPr id="282" name="TextBox 10"/>
            <p:cNvSpPr/>
            <p:nvPr/>
          </p:nvSpPr>
          <p:spPr>
            <a:xfrm>
              <a:off x="609480" y="5486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5"/>
            <p:cNvSpPr/>
            <p:nvPr/>
          </p:nvSpPr>
          <p:spPr>
            <a:xfrm>
              <a:off x="990360" y="548640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4"/>
                </a:rPr>
                <a:t>Video Clip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6"/>
          <p:cNvGrpSpPr/>
          <p:nvPr/>
        </p:nvGrpSpPr>
        <p:grpSpPr>
          <a:xfrm>
            <a:off x="4191120" y="5486400"/>
            <a:ext cx="2743200" cy="368280"/>
            <a:chOff x="4191120" y="5486400"/>
            <a:chExt cx="2743200" cy="368280"/>
          </a:xfrm>
        </p:grpSpPr>
        <p:sp>
          <p:nvSpPr>
            <p:cNvPr id="285" name="TextBox 10"/>
            <p:cNvSpPr/>
            <p:nvPr/>
          </p:nvSpPr>
          <p:spPr>
            <a:xfrm>
              <a:off x="4191120" y="548640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5"/>
            <p:cNvSpPr/>
            <p:nvPr/>
          </p:nvSpPr>
          <p:spPr>
            <a:xfrm>
              <a:off x="4594320" y="548640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5"/>
                </a:rPr>
                <a:t>Video Clip Exampl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6"/>
          <p:cNvGrpSpPr/>
          <p:nvPr/>
        </p:nvGrpSpPr>
        <p:grpSpPr>
          <a:xfrm>
            <a:off x="1828800" y="5867280"/>
            <a:ext cx="2743200" cy="368280"/>
            <a:chOff x="1828800" y="5867280"/>
            <a:chExt cx="2743200" cy="368280"/>
          </a:xfrm>
        </p:grpSpPr>
        <p:sp>
          <p:nvSpPr>
            <p:cNvPr id="288" name="TextBox 10"/>
            <p:cNvSpPr/>
            <p:nvPr/>
          </p:nvSpPr>
          <p:spPr>
            <a:xfrm>
              <a:off x="1828800" y="586728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5"/>
            <p:cNvSpPr/>
            <p:nvPr/>
          </p:nvSpPr>
          <p:spPr>
            <a:xfrm>
              <a:off x="2232000" y="58672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6"/>
                </a:rPr>
                <a:t>Video Clip Exampl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6"/>
          <p:cNvGrpSpPr/>
          <p:nvPr/>
        </p:nvGrpSpPr>
        <p:grpSpPr>
          <a:xfrm>
            <a:off x="4800600" y="5867280"/>
            <a:ext cx="2743200" cy="368280"/>
            <a:chOff x="4800600" y="5867280"/>
            <a:chExt cx="2743200" cy="368280"/>
          </a:xfrm>
        </p:grpSpPr>
        <p:sp>
          <p:nvSpPr>
            <p:cNvPr id="291" name="TextBox 10"/>
            <p:cNvSpPr/>
            <p:nvPr/>
          </p:nvSpPr>
          <p:spPr>
            <a:xfrm>
              <a:off x="4800600" y="586728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5"/>
            <p:cNvSpPr/>
            <p:nvPr/>
          </p:nvSpPr>
          <p:spPr>
            <a:xfrm>
              <a:off x="5203800" y="586728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8dc765"/>
                  </a:solidFill>
                  <a:uFillTx/>
                  <a:latin typeface="Arial"/>
                  <a:hlinkClick r:id="rId7"/>
                </a:rPr>
                <a:t>Video Clip Example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Student Accountability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driven instru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tudent accountable for own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2805120"/>
            <a:ext cx="853416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Student Accountability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e Teacher as a facilit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29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Questions?  Comments?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complete version of this presentation and other resources listed throughout, please go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Verdana"/>
              </a:rPr>
              <a:t>http://fur.ly/i9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891a7"/>
                </a:solidFill>
                <a:latin typeface="Verdana"/>
              </a:rPr>
              <a:t>http://fur.ly/i98</a:t>
            </a:r>
            <a:endParaRPr b="1" lang="en-US" sz="44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ll resources listed in presentation as well as the presentation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dc6"/>
                </a:solidFill>
                <a:latin typeface="Verdana"/>
              </a:rPr>
              <a:t>Preparation, Preparation, and more Preparation</a:t>
            </a:r>
            <a:endParaRPr b="1" lang="en-US" sz="32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erence/Professional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three days of great stuff for you and your classroom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three days of organizing, collecting, photo-copy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day of just writing it all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a lessons or activities just to limit excess down time for class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are se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dc6"/>
                </a:solidFill>
                <a:latin typeface="Verdana"/>
              </a:rPr>
              <a:t>Preparation, Preparation, and more Preparation</a:t>
            </a:r>
            <a:endParaRPr b="1" lang="en-US" sz="32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ck child/family emerg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ation of the “quick lesson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hour or two at the school to photocopy, organiz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pefully your backup is enough to cover until you can retu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Upon Return…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cher went too fas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/She didn’t tell us what to do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ouldn’t get any help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, we didn’t get the handout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, it didn’t work so we just played game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e/He didn’t know how to use the computer. The projector broke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nter your favorite excuse here.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ranslation…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o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 as if you weren’t g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you’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122200" cy="2819160"/>
          </a:xfrm>
          <a:prstGeom prst="rect">
            <a:avLst/>
          </a:prstGeom>
          <a:ln w="69840">
            <a:solidFill>
              <a:srgbClr val="ff00ff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5791320" y="4495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91a7"/>
                </a:solidFill>
                <a:latin typeface="Arial"/>
              </a:rPr>
              <a:t>A Little Behind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echnology Integration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160"/>
            <a:ext cx="8183520" cy="99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www.jingproject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15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echnology Integration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52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www.wikispaces.c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377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Technology Integration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www.google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gle Sites (must be a member – log into your iGoogle accou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696080" cy="17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48718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03:51:39Z</dcterms:created>
  <dc:creator>LDSD</dc:creator>
  <dc:description/>
  <dc:language>en-US</dc:language>
  <cp:lastModifiedBy>LDSD</cp:lastModifiedBy>
  <dcterms:modified xsi:type="dcterms:W3CDTF">2010-03-15T04:29:03Z</dcterms:modified>
  <cp:revision>43</cp:revision>
  <dc:subject/>
  <dc:title>No More Sub Notes!</dc:title>
</cp:coreProperties>
</file>